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42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7.jpeg" ContentType="image/jpeg"/>
  <Override PartName="/ppt/media/image13.png" ContentType="image/png"/>
  <Override PartName="/ppt/media/image40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44.jpeg" ContentType="image/jpeg"/>
  <Override PartName="/ppt/media/image45.png" ContentType="image/png"/>
  <Override PartName="/ppt/media/image27.jpeg" ContentType="image/jpeg"/>
  <Override PartName="/ppt/media/image18.png" ContentType="image/png"/>
  <Override PartName="/ppt/media/image6.jpeg" ContentType="image/jpeg"/>
  <Override PartName="/ppt/media/image46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.gif" ContentType="image/gif"/>
  <Override PartName="/ppt/media/image35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9.jpeg" ContentType="image/jpe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4EEB-D614-41E2-A21F-68365C0C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A6A-CBB5-4B5B-89EC-C7A9EC751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AF03-52A7-4091-ACB1-52CBE0B4A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3140-7B33-4F65-8FAD-8A71D0E3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43D3-7CF7-496B-8F6A-CD7F3D8DA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5212-EE93-4489-AD36-8F685A91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5E8D-F8B8-48A2-A54E-864C390CF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A0485-3DAD-4ADC-A5E5-910B5210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A26C-B6E4-4F2B-9E77-1E053026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5FB8-FA0E-4FBB-8B53-76D2B67D5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832-2FD1-4F03-8C5C-1862D015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E723-9B0F-4DF5-81FA-22CBD202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5ECD8-B4AD-4E41-8B09-5F075C5E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5A5E-8068-4483-9F5C-8C2667632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D1ABC-70F8-40D8-9EBF-0FE3C914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AAA1-A52D-40F7-BDE2-AA6B205A9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9AC2-431E-4C5E-B7B2-11DD4334B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17D04-A777-45E7-BCB5-17801918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49B9DB-F1E9-404A-859C-8514791D3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8D3A48-B29B-489E-A0EA-5B258AC1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73A1EB-1963-4538-B6EA-41E6C4F67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06E536-8CC0-4543-AAB5-6A6390E8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13AE-7A87-4F3C-A3C0-E5A81742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CDF1F-54D3-403D-865B-676A07F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46B5B0-660E-42C1-AEF4-081A96B8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E65815-20E6-42D1-BC9C-01F17FE3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4A6820-F99D-4963-95AA-0570A5DD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12333-64B0-49C0-8A35-5DCEE30D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A69B1-17CB-456C-993D-683F374C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57787C-9B99-458D-BE50-2ADC72AD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7856F-0C8E-4B2C-A0C3-E798954C4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0D46E-31D3-4726-99A2-68A1D613C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58587-0D1D-4C66-9AD4-286CDC3D2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6A7-B5E1-4BF7-A405-92634465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5A9AC-77F4-4B53-A7D8-FE968FE7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E5BAC-F686-4224-8D75-FE600CEE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82819-A9B8-4138-9ECA-5CFAEEA4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E5B36-5683-49C1-8328-9FB0B256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3B195-3A22-4A4C-8A71-554C467B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440C-0359-466F-BEE4-3F8BE5DB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CCEE9-CCB4-46C9-8742-BB617978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5B31-CD19-4737-A40B-FB18D220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25555-2A6B-4136-A005-AAF575C2C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F6E40B-0828-418E-8243-1ACDAB70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F7FA-8554-4D95-A9FD-78A0EAF6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080095-2555-47A6-B61D-F2955551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2AAD1C-C315-425C-9848-9D8B9A26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423187-A8FB-430B-A79E-BDAFE0D7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20BA82-8D78-4EAA-AF44-3EA7E7508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72F76-0E28-461C-B397-3AA2546F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46A206-6F8E-4373-B708-F7CAB6C4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4071DE-7890-4124-9D59-579FF7A7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C603D-76E6-478C-A4E2-1955931DC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AA21E-5AB1-464F-8FA6-A782A627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902A47-3661-4F6E-A60B-4C699F9EE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FB93-7A20-455D-B9EB-667792A6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C85873-E0DF-42D3-82D0-A45CF322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E7C888-C853-486A-B72B-4FBB181C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2AC377-D35A-432F-ABDB-24E4AED5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22B03D-0C9B-4BEE-BE53-15DBE93B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4AF84-C160-4E20-97D2-182E44D5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B1C22-689F-4D28-8261-571FD06AE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0F6440-4CB5-4F40-8772-443FA258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EE8C8-C9E7-4268-A966-4CEE0E92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2C0798-71E1-4A90-99CC-5BE9E64C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96B484-2B84-4623-A41A-CE1DE281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F4E-D9CB-4DA7-9EDE-2D56BB42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DEA579-9EB9-47FB-A008-9E277BE3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59DC91-74B5-4D54-A8C6-7CBE33E3A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633C20-5DEF-4296-A3ED-86A14550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2D01A-F205-41A6-97CA-46846C51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7F68E6-2A5E-4056-9C12-FA38AB33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E76241-7A0D-42B3-A32F-95890ABF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A19C8C-3D08-442D-A4C5-83070275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D06F9D-94B3-4A2F-959F-4530B699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F6143-ADDD-45A0-999D-0EDC47F0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E44414-6267-4EBF-8B21-8C4763F7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9799-6E1A-4FE6-861A-E2C6C54B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D57934-5BEF-48B3-8387-A121BA66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C5D2A4-B27D-47A1-99E0-DACB94DA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FE8D72-5C89-4CAE-9C18-E5BAF947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B58016-2B5A-4C55-A233-EA3B1103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1D2587-1EAE-400F-8929-99D0ED714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829E-E7C8-45CB-B772-0A2F71B2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11EB-19A2-427E-89CB-B0DBB847B6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A20C-4FD8-4887-A261-B7E10C1B40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869A-5163-4CF7-BB7B-3639E53D58F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faec5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cedb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cedb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8ee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faec5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8ee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faec5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faec5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d2d2d2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d2d2d2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7A5A-35BC-427B-AFB2-E3906FB6F60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E502-E400-449B-852A-71D7B320FB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CB863-2C35-4777-9D94-5FF315BECD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fae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fae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f38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66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1307b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faec5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efaab5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F202-010F-48CE-859D-B78DF86A000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" Target="slide9.xml"/><Relationship Id="rId10" Type="http://schemas.openxmlformats.org/officeDocument/2006/relationships/slide" Target="slide9.xml"/><Relationship Id="rId11" Type="http://schemas.openxmlformats.org/officeDocument/2006/relationships/image" Target="../media/image15.png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slide" Target="slide10.xml"/><Relationship Id="rId20" Type="http://schemas.openxmlformats.org/officeDocument/2006/relationships/slide" Target="slide10.xml"/><Relationship Id="rId21" Type="http://schemas.openxmlformats.org/officeDocument/2006/relationships/image" Target="../media/image18.png"/><Relationship Id="rId22" Type="http://schemas.openxmlformats.org/officeDocument/2006/relationships/image" Target="../media/image19.png"/><Relationship Id="rId23" Type="http://schemas.openxmlformats.org/officeDocument/2006/relationships/image" Target="../media/image20.png"/><Relationship Id="rId2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4" descr="C:\Documents and Settings\Светлана\Рабочий стол\ПЛАНИРОВАНИЕ НА 1 КЛАСС\воспитательная работа\мероприятия\Азбука\1\Ход праздника.files\call.gif"/>
          <p:cNvPicPr/>
          <p:nvPr/>
        </p:nvPicPr>
        <p:blipFill>
          <a:blip r:embed="rId2"/>
          <a:stretch/>
        </p:blipFill>
        <p:spPr>
          <a:xfrm>
            <a:off x="5983200" y="3071880"/>
            <a:ext cx="3160800" cy="2286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 rot="377400">
            <a:off x="1870200" y="1649160"/>
            <a:ext cx="674352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ab0043"/>
                </a:solidFill>
                <a:latin typeface="Georgia"/>
              </a:rPr>
              <a:t>ДОЧИТАЛИ ДО КОНЦА МЫ</a:t>
            </a:r>
            <a:br>
              <a:rPr sz="3600"/>
            </a:br>
            <a:r>
              <a:rPr b="1" i="1" lang="en-US" sz="3600" spc="-1" strike="noStrike">
                <a:solidFill>
                  <a:srgbClr val="ab0043"/>
                </a:solidFill>
                <a:latin typeface="Georgia"/>
              </a:rPr>
              <a:t>КНИЖКУ, «АЗБУКУ» СВОЮ,</a:t>
            </a:r>
            <a:br>
              <a:rPr sz="3600"/>
            </a:br>
            <a:r>
              <a:rPr b="1" i="1" lang="en-US" sz="3600" spc="-1" strike="noStrike">
                <a:solidFill>
                  <a:srgbClr val="ab0043"/>
                </a:solidFill>
                <a:latin typeface="Georgia"/>
              </a:rPr>
              <a:t>И СЕГОДНЯ ГОВОРИМ ЕЙ ДРУЖНО ВСЕ:</a:t>
            </a:r>
            <a:br>
              <a:rPr sz="3600"/>
            </a:br>
            <a:r>
              <a:rPr b="1" i="1" lang="en-US" sz="3600" spc="-1" strike="noStrike">
                <a:solidFill>
                  <a:srgbClr val="ab0043"/>
                </a:solidFill>
                <a:latin typeface="Georgia"/>
              </a:rPr>
              <a:t>«БЛАГОДАРЮ!»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3214440" y="5143680"/>
            <a:ext cx="4886280" cy="108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entury Schoolbook"/>
              </a:rPr>
              <a:t>1 </a:t>
            </a:r>
            <a:r>
              <a:rPr b="1" lang="ru-RU" sz="2000" spc="-1" strike="noStrike">
                <a:solidFill>
                  <a:srgbClr val="00449e"/>
                </a:solidFill>
                <a:latin typeface="Century Schoolbook"/>
              </a:rPr>
              <a:t>класс 2007-2008 уч.го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entury Schoolbook"/>
              </a:rPr>
              <a:t>Классный руководитель 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49e"/>
                </a:solidFill>
                <a:latin typeface="Century Schoolbook"/>
              </a:rPr>
              <a:t>Сапегина Светлана Пименовна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8" name="Picture 5" descr="C:\Documents and Settings\Светлана\Рабочий стол\ПЛАНИРОВАНИЕ НА 1 КЛАСС\воспитательная работа\мероприятия\Азбука\1\Ход праздника.files\g.gif"/>
          <p:cNvPicPr/>
          <p:nvPr/>
        </p:nvPicPr>
        <p:blipFill>
          <a:blip r:embed="rId3"/>
          <a:stretch/>
        </p:blipFill>
        <p:spPr>
          <a:xfrm>
            <a:off x="285840" y="714240"/>
            <a:ext cx="1981080" cy="258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6" descr="C:\Documents and Settings\Светлана\Рабочий стол\ПЛАНИРОВАНИЕ НА 1 КЛАСС\воспитательная работа\мероприятия\Азбука\1\Ход праздника.files\cc.gif"/>
          <p:cNvPicPr/>
          <p:nvPr/>
        </p:nvPicPr>
        <p:blipFill>
          <a:blip r:embed="rId4"/>
          <a:stretch/>
        </p:blipFill>
        <p:spPr>
          <a:xfrm>
            <a:off x="500040" y="3500280"/>
            <a:ext cx="2214720" cy="2143440"/>
          </a:xfrm>
          <a:prstGeom prst="rect">
            <a:avLst/>
          </a:prstGeom>
          <a:ln w="0">
            <a:noFill/>
          </a:ln>
        </p:spPr>
      </p:pic>
    </p:spTree>
  </p:cSld>
  <p:transition spd="med" advTm="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10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8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b0043"/>
                </a:solidFill>
                <a:latin typeface="Georgia"/>
              </a:rPr>
              <a:t> </a:t>
            </a:r>
            <a:r>
              <a:rPr b="1" lang="en-US" sz="3000" spc="-1" strike="noStrike">
                <a:solidFill>
                  <a:srgbClr val="ab0043"/>
                </a:solidFill>
                <a:latin typeface="Georgia"/>
              </a:rPr>
              <a:t>3 СТАНЦИЯ « СЛОГОВАЯ»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А я уже могу писать! – громко всем объявил, появившийся на празднике Незнайка, который принёс с собой большое объявление, но… вот  прореха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В объявлении пропала буква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Спе...ите, спе...ите на помощ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Дорогие   ...кольники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Помогите освободить букву «...»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Ее похитил злодей Кривой Почерк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4" name="Рисунок 5" descr="IMG_0940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28760" y="1089000"/>
            <a:ext cx="7429320" cy="5572080"/>
          </a:xfrm>
          <a:prstGeom prst="rect">
            <a:avLst/>
          </a:prstGeom>
          <a:ln w="0">
            <a:noFill/>
          </a:ln>
        </p:spPr>
      </p:pic>
      <p:sp>
        <p:nvSpPr>
          <p:cNvPr id="435" name="Выноска-облако 4"/>
          <p:cNvSpPr/>
          <p:nvPr/>
        </p:nvSpPr>
        <p:spPr>
          <a:xfrm>
            <a:off x="7929720" y="5715000"/>
            <a:ext cx="785520" cy="6429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760"/>
                            </p:stCondLst>
                            <p:childTnLst>
                              <p:par>
                                <p:cTn id="43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20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76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260"/>
                            </p:stCondLst>
                            <p:childTnLst>
                              <p:par>
                                <p:cTn id="448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760"/>
                            </p:stCondLst>
                            <p:childTnLst>
                              <p:par>
                                <p:cTn id="4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760"/>
                            </p:stCondLst>
                            <p:childTnLst>
                              <p:par>
                                <p:cTn id="45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2000" fill="hold"/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2760"/>
                            </p:stCondLst>
                            <p:childTnLst>
                              <p:par>
                                <p:cTn id="46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4760"/>
                            </p:stCondLst>
                            <p:childTnLst>
                              <p:par>
                                <p:cTn id="4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b0043"/>
                </a:solidFill>
                <a:latin typeface="Georgia"/>
              </a:rPr>
              <a:t>В ПОИСКАХ РАЗБОЙНИКА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Чтобы найти разбойника, укравшего букву, нам надо составить указатель поиск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На карточках - задания, на обратной стороне – слоги для составления кода-разгадки о том, где отыскать Кривой Почерк, чтобы освободить букву «ш». Ребята должны выполнить задания. По мере выполнения заданий на доске появлялись слоги, которые позднее образовали предложе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0062"/>
                </a:solidFill>
                <a:latin typeface="Century Schoolbook"/>
              </a:rPr>
              <a:t>Кривой почерк прячется за дверью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42640" indent="-24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8" name="Рисунок 3" descr="IMG_0938.jpg"/>
          <p:cNvPicPr/>
          <p:nvPr/>
        </p:nvPicPr>
        <p:blipFill>
          <a:blip r:embed="rId2"/>
          <a:stretch/>
        </p:blipFill>
        <p:spPr>
          <a:xfrm rot="21001200">
            <a:off x="921960" y="820440"/>
            <a:ext cx="6640560" cy="4981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60"/>
                            </p:stCondLst>
                            <p:childTnLst>
                              <p:par>
                                <p:cTn id="4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760"/>
                            </p:stCondLst>
                            <p:childTnLst>
                              <p:par>
                                <p:cTn id="4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760"/>
                            </p:stCondLst>
                            <p:childTnLst>
                              <p:par>
                                <p:cTn id="491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3760"/>
                            </p:stCondLst>
                            <p:childTnLst>
                              <p:par>
                                <p:cTn id="497" nodeType="after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5260"/>
                            </p:stCondLst>
                            <p:childTnLst>
                              <p:par>
                                <p:cTn id="50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0" fill="hold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152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90062"/>
                </a:solidFill>
                <a:latin typeface="Georgia"/>
              </a:rPr>
              <a:t>ИНСЦЕНИРОВКА СКАЗКИ «ТЕРЕМ-ТЕРЕМОК» </a:t>
            </a:r>
            <a:br>
              <a:rPr sz="2700"/>
            </a:br>
            <a:r>
              <a:rPr b="1" lang="en-US" sz="2700" spc="-1" strike="noStrike">
                <a:solidFill>
                  <a:srgbClr val="e90062"/>
                </a:solidFill>
                <a:latin typeface="Georgia"/>
              </a:rPr>
              <a:t>НА ШКОЛЬНЫЙ ЛАД.</a:t>
            </a:r>
            <a:br>
              <a:rPr sz="2700"/>
            </a:br>
            <a:endParaRPr b="0" lang="en-US" sz="27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213840" y="857160"/>
            <a:ext cx="47149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Стоит терем-теремок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Он не низок, не высок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Кто-кто в теремочке живет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Нет ответа, всё молчи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Теремок пустой стоит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Вот сюда идет пена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Ах, куда же я попал?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Буду здесь жить-поживать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Азбука потом пришла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Вышел на порог пенал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Азбуку к себе позвал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-  </a:t>
            </a: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Будем мы с тобой дружить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Будем здесь с тобою жить!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76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Тут тетрадки прибежали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В теремок проситься стали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Карандашики бегут –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  <a:ea typeface="Arial"/>
              </a:rPr>
              <a:t>В теремочке все их ждут,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100000"/>
              </a:lnSpc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1" name="TextBox 4" descr=""/>
          <p:cNvPicPr/>
          <p:nvPr/>
        </p:nvPicPr>
        <p:blipFill>
          <a:blip r:embed="rId2"/>
          <a:stretch/>
        </p:blipFill>
        <p:spPr>
          <a:xfrm>
            <a:off x="353880" y="1316160"/>
            <a:ext cx="8296560" cy="3189240"/>
          </a:xfrm>
          <a:prstGeom prst="rect">
            <a:avLst/>
          </a:prstGeom>
          <a:ln w="0">
            <a:noFill/>
          </a:ln>
        </p:spPr>
      </p:pic>
      <p:pic>
        <p:nvPicPr>
          <p:cNvPr id="442" name="Рисунок 5" descr="IMG_0931.jpg"/>
          <p:cNvPicPr/>
          <p:nvPr/>
        </p:nvPicPr>
        <p:blipFill>
          <a:blip r:embed="rId3"/>
          <a:stretch/>
        </p:blipFill>
        <p:spPr>
          <a:xfrm>
            <a:off x="3643200" y="1285920"/>
            <a:ext cx="5011920" cy="42861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6" descr="IMG_0932.jpg"/>
          <p:cNvPicPr/>
          <p:nvPr/>
        </p:nvPicPr>
        <p:blipFill>
          <a:blip r:embed="rId4"/>
          <a:stretch/>
        </p:blipFill>
        <p:spPr>
          <a:xfrm>
            <a:off x="642960" y="1035000"/>
            <a:ext cx="7643880" cy="5734080"/>
          </a:xfrm>
          <a:prstGeom prst="rect">
            <a:avLst/>
          </a:prstGeom>
          <a:ln w="0">
            <a:noFill/>
          </a:ln>
        </p:spPr>
      </p:pic>
      <p:pic>
        <p:nvPicPr>
          <p:cNvPr id="444" name="Рисунок 7" descr="IMG_0933.jpg"/>
          <p:cNvPicPr/>
          <p:nvPr/>
        </p:nvPicPr>
        <p:blipFill>
          <a:blip r:embed="rId5"/>
          <a:stretch/>
        </p:blipFill>
        <p:spPr>
          <a:xfrm>
            <a:off x="714240" y="96372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920"/>
                            </p:stCondLst>
                            <p:childTnLst>
                              <p:par>
                                <p:cTn id="5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920"/>
                            </p:stCondLst>
                            <p:childTnLst>
                              <p:par>
                                <p:cTn id="5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920"/>
                            </p:stCondLst>
                            <p:childTnLst>
                              <p:par>
                                <p:cTn id="5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5920"/>
                            </p:stCondLst>
                            <p:childTnLst>
                              <p:par>
                                <p:cTn id="5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6920"/>
                            </p:stCondLst>
                            <p:childTnLst>
                              <p:par>
                                <p:cTn id="5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792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8920"/>
                            </p:stCondLst>
                            <p:childTnLst>
                              <p:par>
                                <p:cTn id="5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9920"/>
                            </p:stCondLst>
                            <p:childTnLst>
                              <p:par>
                                <p:cTn id="5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0920"/>
                            </p:stCondLst>
                            <p:childTnLst>
                              <p:par>
                                <p:cTn id="5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1920"/>
                            </p:stCondLst>
                            <p:childTnLst>
                              <p:par>
                                <p:cTn id="5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2920"/>
                            </p:stCondLst>
                            <p:childTnLst>
                              <p:par>
                                <p:cTn id="5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392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14920"/>
                            </p:stCondLst>
                            <p:childTnLst>
                              <p:par>
                                <p:cTn id="5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5920"/>
                            </p:stCondLst>
                            <p:childTnLst>
                              <p:par>
                                <p:cTn id="5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6920"/>
                            </p:stCondLst>
                            <p:childTnLst>
                              <p:par>
                                <p:cTn id="5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4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4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7920"/>
                            </p:stCondLst>
                            <p:childTnLst>
                              <p:par>
                                <p:cTn id="6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8920"/>
                            </p:stCondLst>
                            <p:childTnLst>
                              <p:par>
                                <p:cTn id="6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4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9920"/>
                            </p:stCondLst>
                            <p:childTnLst>
                              <p:par>
                                <p:cTn id="6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4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/>
                                        <p:tgtEl>
                                          <p:spTgt spid="4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20920"/>
                            </p:stCondLst>
                            <p:childTnLst>
                              <p:par>
                                <p:cTn id="62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23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1420"/>
                            </p:stCondLst>
                            <p:childTnLst>
                              <p:par>
                                <p:cTn id="62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2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1920"/>
                            </p:stCondLst>
                            <p:childTnLst>
                              <p:par>
                                <p:cTn id="63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31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2420"/>
                            </p:stCondLst>
                            <p:childTnLst>
                              <p:par>
                                <p:cTn id="63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35" dur="500"/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2920"/>
                            </p:stCondLst>
                            <p:childTnLst>
                              <p:par>
                                <p:cTn id="63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39" dur="500"/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23420"/>
                            </p:stCondLst>
                            <p:childTnLst>
                              <p:par>
                                <p:cTn id="64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43" dur="500"/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3920"/>
                            </p:stCondLst>
                            <p:childTnLst>
                              <p:par>
                                <p:cTn id="64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47" dur="500"/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4420"/>
                            </p:stCondLst>
                            <p:childTnLst>
                              <p:par>
                                <p:cTn id="65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1" dur="500"/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24920"/>
                            </p:stCondLst>
                            <p:childTnLst>
                              <p:par>
                                <p:cTn id="65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5" dur="500"/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25420"/>
                            </p:stCondLst>
                            <p:childTnLst>
                              <p:par>
                                <p:cTn id="65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59" dur="500"/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25920"/>
                            </p:stCondLst>
                            <p:childTnLst>
                              <p:par>
                                <p:cTn id="66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3" dur="500"/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26420"/>
                            </p:stCondLst>
                            <p:childTnLst>
                              <p:par>
                                <p:cTn id="66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67" dur="500"/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6920"/>
                            </p:stCondLst>
                            <p:childTnLst>
                              <p:par>
                                <p:cTn id="670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1" dur="500"/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7420"/>
                            </p:stCondLst>
                            <p:childTnLst>
                              <p:par>
                                <p:cTn id="674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5" dur="500"/>
                                        <p:tgtEl>
                                          <p:spTgt spid="4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27920"/>
                            </p:stCondLst>
                            <p:childTnLst>
                              <p:par>
                                <p:cTn id="678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79" dur="500"/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28420"/>
                            </p:stCondLst>
                            <p:childTnLst>
                              <p:par>
                                <p:cTn id="682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83" dur="500"/>
                                        <p:tgtEl>
                                          <p:spTgt spid="4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28920"/>
                            </p:stCondLst>
                            <p:childTnLst>
                              <p:par>
                                <p:cTn id="686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687" dur="500"/>
                                        <p:tgtEl>
                                          <p:spTgt spid="4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29420"/>
                            </p:stCondLst>
                            <p:childTnLst>
                              <p:par>
                                <p:cTn id="69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30420"/>
                            </p:stCondLst>
                            <p:childTnLst>
                              <p:par>
                                <p:cTn id="69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6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32420"/>
                            </p:stCondLst>
                            <p:childTnLst>
                              <p:par>
                                <p:cTn id="698" nodeType="afterEffect" fill="hold" presetClass="entr" presetID="6" presetSubtype="16">
                                  <p:stCondLst>
                                    <p:cond delay="185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0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2920"/>
                            </p:stCondLst>
                            <p:childTnLst>
                              <p:par>
                                <p:cTn id="702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4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28400" y="571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0043"/>
                </a:solidFill>
                <a:latin typeface="Georgia"/>
              </a:rPr>
              <a:t>4 СТАНЦИЯ « ЗАГАДКИНО»</a:t>
            </a:r>
            <a:br>
              <a:rPr sz="3200"/>
            </a:b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456840" y="785880"/>
            <a:ext cx="746748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теперь я посмотрю, как вы умеете отгадывать загадки 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Любите загадки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адайте по порядку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 друг другу помогайте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Хором нам ответ давайт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У сосны и елки листики—иголк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А на каких листочках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астут слова и строчки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лый камешек растаял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доске следы остави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Черный Ивашка—деревянная рубашка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Где носом проведет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ам и след клад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0920" indent="-25092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47" name="Рисунок 3" descr="IMG_0936.jpg"/>
          <p:cNvPicPr/>
          <p:nvPr/>
        </p:nvPicPr>
        <p:blipFill>
          <a:blip r:embed="rId2"/>
          <a:stretch/>
        </p:blipFill>
        <p:spPr>
          <a:xfrm>
            <a:off x="357120" y="973080"/>
            <a:ext cx="7591320" cy="5884920"/>
          </a:xfrm>
          <a:prstGeom prst="rect">
            <a:avLst/>
          </a:prstGeom>
          <a:ln w="0">
            <a:noFill/>
          </a:ln>
        </p:spPr>
      </p:pic>
      <p:sp>
        <p:nvSpPr>
          <p:cNvPr id="448" name="Выноска-облако 4"/>
          <p:cNvSpPr/>
          <p:nvPr/>
        </p:nvSpPr>
        <p:spPr>
          <a:xfrm>
            <a:off x="8072280" y="5643720"/>
            <a:ext cx="785880" cy="785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800"/>
                            </p:stCondLst>
                            <p:childTnLst>
                              <p:par>
                                <p:cTn id="7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9" dur="20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2800"/>
                            </p:stCondLst>
                            <p:childTnLst>
                              <p:par>
                                <p:cTn id="7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20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4800"/>
                            </p:stCondLst>
                            <p:childTnLst>
                              <p:par>
                                <p:cTn id="7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20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1" dur="20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6800"/>
                            </p:stCondLst>
                            <p:childTnLst>
                              <p:par>
                                <p:cTn id="7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20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20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8800"/>
                            </p:stCondLst>
                            <p:childTnLst>
                              <p:par>
                                <p:cTn id="7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3" dur="20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800"/>
                            </p:stCondLst>
                            <p:childTnLst>
                              <p:par>
                                <p:cTn id="74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9" dur="20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3800"/>
                            </p:stCondLst>
                            <p:childTnLst>
                              <p:par>
                                <p:cTn id="75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5" dur="20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5800"/>
                            </p:stCondLst>
                            <p:childTnLst>
                              <p:par>
                                <p:cTn id="7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2000"/>
                                        <p:tgtEl>
                                          <p:spTgt spid="4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7800"/>
                            </p:stCondLst>
                            <p:childTnLst>
                              <p:par>
                                <p:cTn id="763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7" dur="2000"/>
                                        <p:tgtEl>
                                          <p:spTgt spid="4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20300"/>
                            </p:stCondLst>
                            <p:childTnLst>
                              <p:par>
                                <p:cTn id="769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2000" fill="hold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3" dur="2000"/>
                                        <p:tgtEl>
                                          <p:spTgt spid="4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22800"/>
                            </p:stCondLst>
                            <p:childTnLst>
                              <p:par>
                                <p:cTn id="775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2000" fill="hold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9" dur="2000"/>
                                        <p:tgtEl>
                                          <p:spTgt spid="4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26300"/>
                            </p:stCondLst>
                            <p:childTnLst>
                              <p:par>
                                <p:cTn id="7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4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4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5" dur="2000"/>
                                        <p:tgtEl>
                                          <p:spTgt spid="4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28300"/>
                            </p:stCondLst>
                            <p:childTnLst>
                              <p:par>
                                <p:cTn id="78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2000" fill="hold"/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1" dur="2000"/>
                                        <p:tgtEl>
                                          <p:spTgt spid="4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0300"/>
                            </p:stCondLst>
                            <p:childTnLst>
                              <p:par>
                                <p:cTn id="793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5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ab0043"/>
                </a:solidFill>
                <a:latin typeface="Georgia"/>
              </a:rPr>
              <a:t>НОВАЯ СТАНЦИЯ – ПЕСЕННАЯ</a:t>
            </a:r>
            <a:r>
              <a:rPr b="0" lang="en-US" sz="3000" spc="-1" strike="noStrike">
                <a:solidFill>
                  <a:srgbClr val="ab0043"/>
                </a:solidFill>
                <a:latin typeface="Georgia"/>
              </a:rPr>
              <a:t>. </a:t>
            </a: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1" name="Выноска-облако 3"/>
          <p:cNvSpPr/>
          <p:nvPr/>
        </p:nvSpPr>
        <p:spPr>
          <a:xfrm>
            <a:off x="7858080" y="5715000"/>
            <a:ext cx="986040" cy="78588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0043"/>
                </a:solidFill>
                <a:latin typeface="Georgia"/>
              </a:rPr>
              <a:t>6 СТАНЦИЯ « СЮРПРИЗОВО»</a:t>
            </a:r>
            <a:br>
              <a:rPr sz="3200"/>
            </a:b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285480" y="857160"/>
            <a:ext cx="835812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У нас на празднике присутствуют гости—герои ваших любимых книг. Вот они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Молодцы! Как я рад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             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Кто не знает Буратино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   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Нос мой острый, нос мой длинный!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Вот задам работу я деревянным башмакам.               Приглашаю вас, ребята, станцевать мой  любимый </a:t>
            </a:r>
            <a:r>
              <a:rPr b="1" lang="en-US" sz="2400" spc="-1" strike="noStrike">
                <a:solidFill>
                  <a:srgbClr val="002776"/>
                </a:solidFill>
                <a:latin typeface="Century Schoolbook"/>
              </a:rPr>
              <a:t>«Танец утят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TextBox 3"/>
          <p:cNvSpPr/>
          <p:nvPr/>
        </p:nvSpPr>
        <p:spPr>
          <a:xfrm>
            <a:off x="142920" y="4714920"/>
            <a:ext cx="7786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4"/>
          <p:cNvSpPr/>
          <p:nvPr/>
        </p:nvSpPr>
        <p:spPr>
          <a:xfrm>
            <a:off x="285840" y="1500120"/>
            <a:ext cx="8358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Тихо! Что за шум здес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Отчего? Не пойму я нич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Здравствуйте, касатик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И зачем вы здесь собрались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Вам не лень? Лучше б дома на диванчике полежали, телевизор   посмотр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Это что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Буков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Да что в них толку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776"/>
                </a:solidFill>
                <a:latin typeface="Arial"/>
              </a:rPr>
              <a:t>А то еще придумали: гласные – согласны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"/>
          <p:cNvSpPr/>
          <p:nvPr/>
        </p:nvSpPr>
        <p:spPr>
          <a:xfrm>
            <a:off x="428760" y="2143080"/>
            <a:ext cx="742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Arial"/>
              </a:rPr>
              <a:t>Ишь, умные какие! Все-то вы знаете! А все ли умеете? Вот я  вам сейчас загадки загадаю. Если не отгадаете –награждение  отменяется. Договорились? Уверены в своих сила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6"/>
          <p:cNvSpPr/>
          <p:nvPr/>
        </p:nvSpPr>
        <p:spPr>
          <a:xfrm>
            <a:off x="500040" y="1643040"/>
            <a:ext cx="75722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2776"/>
                </a:solidFill>
                <a:latin typeface="Arial"/>
              </a:rPr>
              <a:t>Знаешь, Баба Яга, ребята любую твою загадку отгадают, ведь  они учатся в школе. Так что отправляйся-ка ты назад в свой лес, нам здесь не меш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76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Рисунок 7" descr="IMG_0942.jpg"/>
          <p:cNvPicPr/>
          <p:nvPr/>
        </p:nvPicPr>
        <p:blipFill>
          <a:blip r:embed="rId2"/>
          <a:stretch/>
        </p:blipFill>
        <p:spPr>
          <a:xfrm>
            <a:off x="500040" y="785880"/>
            <a:ext cx="7572240" cy="568008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8" descr="IMG_0944.jpg"/>
          <p:cNvPicPr/>
          <p:nvPr/>
        </p:nvPicPr>
        <p:blipFill>
          <a:blip r:embed="rId3"/>
          <a:stretch/>
        </p:blipFill>
        <p:spPr>
          <a:xfrm>
            <a:off x="428760" y="785880"/>
            <a:ext cx="7810200" cy="58579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9" descr="IMG_0945.jpg"/>
          <p:cNvPicPr/>
          <p:nvPr/>
        </p:nvPicPr>
        <p:blipFill>
          <a:blip r:embed="rId4"/>
          <a:stretch/>
        </p:blipFill>
        <p:spPr>
          <a:xfrm>
            <a:off x="285840" y="785880"/>
            <a:ext cx="8072280" cy="58579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10" descr="IMG_0941.jpg"/>
          <p:cNvPicPr/>
          <p:nvPr/>
        </p:nvPicPr>
        <p:blipFill>
          <a:blip r:embed="rId5"/>
          <a:stretch/>
        </p:blipFill>
        <p:spPr>
          <a:xfrm>
            <a:off x="285840" y="768240"/>
            <a:ext cx="8001000" cy="5892840"/>
          </a:xfrm>
          <a:prstGeom prst="rect">
            <a:avLst/>
          </a:prstGeom>
          <a:ln w="0">
            <a:noFill/>
          </a:ln>
        </p:spPr>
      </p:pic>
      <p:sp>
        <p:nvSpPr>
          <p:cNvPr id="462" name="Выноска-облако 11"/>
          <p:cNvSpPr/>
          <p:nvPr/>
        </p:nvSpPr>
        <p:spPr>
          <a:xfrm>
            <a:off x="8072280" y="5643720"/>
            <a:ext cx="857520" cy="7855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0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840"/>
                            </p:stCondLst>
                            <p:childTnLst>
                              <p:par>
                                <p:cTn id="8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2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840"/>
                            </p:stCondLst>
                            <p:childTnLst>
                              <p:par>
                                <p:cTn id="8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4840"/>
                            </p:stCondLst>
                            <p:childTnLst>
                              <p:par>
                                <p:cTn id="829" nodeType="after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0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2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7840"/>
                            </p:stCondLst>
                            <p:childTnLst>
                              <p:par>
                                <p:cTn id="8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9840"/>
                            </p:stCondLst>
                            <p:childTnLst>
                              <p:par>
                                <p:cTn id="8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1840"/>
                            </p:stCondLst>
                            <p:childTnLst>
                              <p:par>
                                <p:cTn id="8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20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2000" fill="hold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3840"/>
                            </p:stCondLst>
                            <p:childTnLst>
                              <p:par>
                                <p:cTn id="8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5840"/>
                            </p:stCondLst>
                            <p:childTnLst>
                              <p:par>
                                <p:cTn id="86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1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6340"/>
                            </p:stCondLst>
                            <p:childTnLst>
                              <p:par>
                                <p:cTn id="86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6840"/>
                            </p:stCondLst>
                            <p:childTnLst>
                              <p:par>
                                <p:cTn id="87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7340"/>
                            </p:stCondLst>
                            <p:childTnLst>
                              <p:par>
                                <p:cTn id="875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6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17840"/>
                            </p:stCondLst>
                            <p:childTnLst>
                              <p:par>
                                <p:cTn id="880" nodeType="after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1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8340"/>
                            </p:stCondLst>
                            <p:childTnLst>
                              <p:par>
                                <p:cTn id="88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20340"/>
                            </p:stCondLst>
                            <p:childTnLst>
                              <p:par>
                                <p:cTn id="902" nodeType="after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20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3340"/>
                            </p:stCondLst>
                            <p:childTnLst>
                              <p:par>
                                <p:cTn id="90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1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5340"/>
                            </p:stCondLst>
                            <p:childTnLst>
                              <p:par>
                                <p:cTn id="913" nodeType="afterEffect" fill="hold" presetClass="exit" presetID="8" presetSubtype="16">
                                  <p:stCondLst>
                                    <p:cond delay="65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14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3840"/>
                            </p:stCondLst>
                            <p:childTnLst>
                              <p:par>
                                <p:cTn id="91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840"/>
                            </p:stCondLst>
                            <p:childTnLst>
                              <p:par>
                                <p:cTn id="934" nodeType="afterEffect" fill="hold" presetClass="exit" presetID="3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38840"/>
                            </p:stCondLst>
                            <p:childTnLst>
                              <p:par>
                                <p:cTn id="94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40840"/>
                            </p:stCondLst>
                            <p:childTnLst>
                              <p:par>
                                <p:cTn id="945" nodeType="afterEffect" fill="hold" presetClass="exit" presetID="8" presetSubtype="16">
                                  <p:stCondLst>
                                    <p:cond delay="6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6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48840"/>
                            </p:stCondLst>
                            <p:childTnLst>
                              <p:par>
                                <p:cTn id="9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fill="hold">
                            <p:stCondLst>
                              <p:cond delay="50840"/>
                            </p:stCondLst>
                            <p:childTnLst>
                              <p:par>
                                <p:cTn id="955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b0043"/>
                </a:solidFill>
                <a:latin typeface="Georgia"/>
              </a:rPr>
              <a:t>ГЛАВНЫЕ ГОСТИ ПРАЗДНИКА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7200" y="928440"/>
            <a:ext cx="79725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Пришли к нам на праздник со своими сюрпризами и секретами еще многие гости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6"/>
                </a:solidFill>
                <a:latin typeface="Century Schoolbook"/>
              </a:rPr>
              <a:t>Королева  Книга  </a:t>
            </a: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рассказала ребятам о том, что жители её царства разговаривают молча, поэтому здесь всегда стоит тиши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776"/>
                </a:solidFill>
                <a:latin typeface="Century Schoolbook"/>
              </a:rPr>
              <a:t>Доктор Айболит </a:t>
            </a: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- книжкин друг, лечит не зверят, а книжки. Да-да, не удивляйтесь, книжки! Они тоже, увы, болеют. Правда, они не чихают, не кашляют, не стонут, не жалуются. Но они страдают. Он подклеивает их, расправляет странички, делает новый перепл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Сегодня не все книжкины герои смогли прибыть на наш праздник. Они прислали нам телеграммы. Все поздравляют нас с праздником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65" name="Рисунок 3" descr="IMG_0946.jpg"/>
          <p:cNvPicPr/>
          <p:nvPr/>
        </p:nvPicPr>
        <p:blipFill>
          <a:blip r:embed="rId2"/>
          <a:stretch/>
        </p:blipFill>
        <p:spPr>
          <a:xfrm>
            <a:off x="357120" y="785880"/>
            <a:ext cx="7858080" cy="5894280"/>
          </a:xfrm>
          <a:prstGeom prst="rect">
            <a:avLst/>
          </a:prstGeom>
          <a:ln w="0">
            <a:noFill/>
          </a:ln>
        </p:spPr>
      </p:pic>
      <p:pic>
        <p:nvPicPr>
          <p:cNvPr id="466" name="Рисунок 4" descr="IMG_0948.jpg"/>
          <p:cNvPicPr/>
          <p:nvPr/>
        </p:nvPicPr>
        <p:blipFill>
          <a:blip r:embed="rId3"/>
          <a:stretch/>
        </p:blipFill>
        <p:spPr>
          <a:xfrm>
            <a:off x="357120" y="696960"/>
            <a:ext cx="7929720" cy="5946840"/>
          </a:xfrm>
          <a:prstGeom prst="rect">
            <a:avLst/>
          </a:prstGeom>
          <a:ln w="0">
            <a:noFill/>
          </a:ln>
        </p:spPr>
      </p:pic>
      <p:pic>
        <p:nvPicPr>
          <p:cNvPr id="467" name="Рисунок 5" descr="IMG_0947.jpg"/>
          <p:cNvPicPr/>
          <p:nvPr/>
        </p:nvPicPr>
        <p:blipFill>
          <a:blip r:embed="rId4"/>
          <a:stretch/>
        </p:blipFill>
        <p:spPr>
          <a:xfrm>
            <a:off x="357120" y="714240"/>
            <a:ext cx="7929720" cy="5946840"/>
          </a:xfrm>
          <a:prstGeom prst="rect">
            <a:avLst/>
          </a:prstGeom>
          <a:ln w="0">
            <a:noFill/>
          </a:ln>
        </p:spPr>
      </p:pic>
      <p:pic>
        <p:nvPicPr>
          <p:cNvPr id="468" name="Рисунок 6" descr="IMG_0949.jpg"/>
          <p:cNvPicPr/>
          <p:nvPr/>
        </p:nvPicPr>
        <p:blipFill>
          <a:blip r:embed="rId5"/>
          <a:stretch/>
        </p:blipFill>
        <p:spPr>
          <a:xfrm>
            <a:off x="285840" y="749160"/>
            <a:ext cx="7858080" cy="5894640"/>
          </a:xfrm>
          <a:prstGeom prst="rect">
            <a:avLst/>
          </a:prstGeom>
          <a:ln w="0">
            <a:noFill/>
          </a:ln>
        </p:spPr>
      </p:pic>
      <p:sp>
        <p:nvSpPr>
          <p:cNvPr id="469" name="Выноска-облако 7"/>
          <p:cNvSpPr/>
          <p:nvPr/>
        </p:nvSpPr>
        <p:spPr>
          <a:xfrm>
            <a:off x="7929720" y="5643720"/>
            <a:ext cx="85716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0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4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5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80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880"/>
                            </p:stCondLst>
                            <p:childTnLst>
                              <p:par>
                                <p:cTn id="9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0" dur="3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3880"/>
                            </p:stCondLst>
                            <p:childTnLst>
                              <p:par>
                                <p:cTn id="972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4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6880"/>
                            </p:stCondLst>
                            <p:childTnLst>
                              <p:par>
                                <p:cTn id="976" nodeType="afterEffect" fill="hold" presetClass="exit" presetID="21" presetSubtype="4">
                                  <p:stCondLst>
                                    <p:cond delay="100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977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8880"/>
                            </p:stCondLst>
                            <p:childTnLst>
                              <p:par>
                                <p:cTn id="9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2" dur="30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1880"/>
                            </p:stCondLst>
                            <p:childTnLst>
                              <p:par>
                                <p:cTn id="984" nodeType="afterEffect" fill="hold" presetClass="entr" presetID="6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6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7880"/>
                            </p:stCondLst>
                            <p:childTnLst>
                              <p:par>
                                <p:cTn id="988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89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20880"/>
                            </p:stCondLst>
                            <p:childTnLst>
                              <p:par>
                                <p:cTn id="99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94" dur="30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3880"/>
                            </p:stCondLst>
                            <p:childTnLst>
                              <p:par>
                                <p:cTn id="996" nodeType="afterEffect" fill="hold" presetClass="entr" presetID="6" presetSubtype="16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8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32880"/>
                            </p:stCondLst>
                            <p:childTnLst>
                              <p:par>
                                <p:cTn id="1000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5880"/>
                            </p:stCondLst>
                            <p:childTnLst>
                              <p:par>
                                <p:cTn id="10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6" dur="30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7" fill="hold">
                            <p:stCondLst>
                              <p:cond delay="38880"/>
                            </p:stCondLst>
                            <p:childTnLst>
                              <p:par>
                                <p:cTn id="1008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10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28400" y="642960"/>
            <a:ext cx="74674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0043"/>
                </a:solidFill>
                <a:latin typeface="Georgia"/>
              </a:rPr>
              <a:t>ЗА ВСЁ, ЧЕМУ ТЫ НАС УЧИЛА,</a:t>
            </a:r>
            <a:br>
              <a:rPr sz="3200"/>
            </a:br>
            <a:r>
              <a:rPr b="1" lang="en-US" sz="3200" spc="-1" strike="noStrike">
                <a:solidFill>
                  <a:srgbClr val="ab0043"/>
                </a:solidFill>
                <a:latin typeface="Georgia"/>
              </a:rPr>
              <a:t> СПАСИБО, АЗБУКА, ТЕБЕ!</a:t>
            </a:r>
            <a:br>
              <a:rPr sz="3200"/>
            </a:br>
            <a:endParaRPr b="0" lang="en-US" sz="32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0" y="1214280"/>
            <a:ext cx="878688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Учебник закрывается, пора  с ним распроститься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               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Он верным другом был для на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        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Прощаясь с ним, грустит наш класс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          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Но долго нам грустить нельзя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         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другие книги, ждут, друзья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76"/>
                </a:solidFill>
                <a:latin typeface="Century Schoolbook"/>
              </a:rPr>
              <a:t>  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До свидания, учебник! А на следующий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                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Ты других читать научишь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               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Тех, кто в первый класс придё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Азбука привела к нам на праздник гостью - книгу “Родная речь”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Поздравляю вас, ребята, с первой школьной победой и хочу, чтобы вы полюбили книги. Их очень много: разных, интересных. Берегите их! Читайте больше! 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2" name="Рисунок 3" descr="IMG_0950.jpg"/>
          <p:cNvPicPr/>
          <p:nvPr/>
        </p:nvPicPr>
        <p:blipFill>
          <a:blip r:embed="rId2"/>
          <a:stretch/>
        </p:blipFill>
        <p:spPr>
          <a:xfrm>
            <a:off x="214200" y="66024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473" name="Рисунок 4" descr="IMG_0951.jpg"/>
          <p:cNvPicPr/>
          <p:nvPr/>
        </p:nvPicPr>
        <p:blipFill>
          <a:blip r:embed="rId3"/>
          <a:stretch/>
        </p:blipFill>
        <p:spPr>
          <a:xfrm>
            <a:off x="428760" y="714240"/>
            <a:ext cx="7858080" cy="58946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7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8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80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680"/>
                            </p:stCondLst>
                            <p:childTnLst>
                              <p:par>
                                <p:cTn id="10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3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fill="hold">
                            <p:stCondLst>
                              <p:cond delay="2680"/>
                            </p:stCondLst>
                            <p:childTnLst>
                              <p:par>
                                <p:cTn id="10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1000"/>
                                        <p:tgtEl>
                                          <p:spTgt spid="4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3680"/>
                            </p:stCondLst>
                            <p:childTnLst>
                              <p:par>
                                <p:cTn id="10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1" dur="1000"/>
                                        <p:tgtEl>
                                          <p:spTgt spid="4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4680"/>
                            </p:stCondLst>
                            <p:childTnLst>
                              <p:par>
                                <p:cTn id="10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1000"/>
                                        <p:tgtEl>
                                          <p:spTgt spid="4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680"/>
                            </p:stCondLst>
                            <p:childTnLst>
                              <p:par>
                                <p:cTn id="10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1000"/>
                                        <p:tgtEl>
                                          <p:spTgt spid="4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6680"/>
                            </p:stCondLst>
                            <p:childTnLst>
                              <p:par>
                                <p:cTn id="10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3" dur="1000"/>
                                        <p:tgtEl>
                                          <p:spTgt spid="4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fill="hold">
                            <p:stCondLst>
                              <p:cond delay="7680"/>
                            </p:stCondLst>
                            <p:childTnLst>
                              <p:par>
                                <p:cTn id="10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7" dur="1000"/>
                                        <p:tgtEl>
                                          <p:spTgt spid="4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8680"/>
                            </p:stCondLst>
                            <p:childTnLst>
                              <p:par>
                                <p:cTn id="10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1" dur="1000"/>
                                        <p:tgtEl>
                                          <p:spTgt spid="4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9680"/>
                            </p:stCondLst>
                            <p:childTnLst>
                              <p:par>
                                <p:cTn id="10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5" dur="1000"/>
                                        <p:tgtEl>
                                          <p:spTgt spid="4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0680"/>
                            </p:stCondLst>
                            <p:childTnLst>
                              <p:par>
                                <p:cTn id="1057" nodeType="afterEffect" fill="hold" presetClass="entr" presetID="18" presetSubtype="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59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15680"/>
                            </p:stCondLst>
                            <p:childTnLst>
                              <p:par>
                                <p:cTn id="1061" nodeType="afterEffect" fill="hold" presetClass="exit" presetID="8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62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4" fill="hold">
                            <p:stCondLst>
                              <p:cond delay="18680"/>
                            </p:stCondLst>
                            <p:childTnLst>
                              <p:par>
                                <p:cTn id="10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7" dur="1000"/>
                                        <p:tgtEl>
                                          <p:spTgt spid="4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19680"/>
                            </p:stCondLst>
                            <p:childTnLst>
                              <p:par>
                                <p:cTn id="1069" nodeType="afterEffect" fill="hold" presetClass="entr" presetID="8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1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82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66666"/>
                </a:solidFill>
                <a:latin typeface="Century Schoolbook"/>
              </a:rPr>
              <a:t> </a:t>
            </a:r>
            <a:r>
              <a:rPr b="1" lang="en-US" sz="2700" spc="-1" strike="noStrike">
                <a:solidFill>
                  <a:srgbClr val="ab0043"/>
                </a:solidFill>
                <a:latin typeface="Century Schoolbook"/>
              </a:rPr>
              <a:t>ТОРЖЕСТВЕННАЯ ЧАСТЬ НАШЕГО ПРАЗДНИКА – ВРУЧЕНИЕ УДОСТОВЕРЕНИЙ.</a:t>
            </a:r>
            <a:br>
              <a:rPr sz="2700"/>
            </a:br>
            <a:endParaRPr b="0" lang="en-US" sz="27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475" name="Содержимое 3" descr="IMG_0952.jpg"/>
          <p:cNvPicPr/>
          <p:nvPr/>
        </p:nvPicPr>
        <p:blipFill>
          <a:blip r:embed="rId2"/>
          <a:stretch/>
        </p:blipFill>
        <p:spPr>
          <a:xfrm>
            <a:off x="941400" y="1285920"/>
            <a:ext cx="6916680" cy="518796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4" descr="IMG_0953.jpg"/>
          <p:cNvPicPr/>
          <p:nvPr/>
        </p:nvPicPr>
        <p:blipFill>
          <a:blip r:embed="rId3"/>
          <a:stretch/>
        </p:blipFill>
        <p:spPr>
          <a:xfrm>
            <a:off x="380880" y="588960"/>
            <a:ext cx="7977240" cy="598320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5" descr="IMG_0954.jpg"/>
          <p:cNvPicPr/>
          <p:nvPr/>
        </p:nvPicPr>
        <p:blipFill>
          <a:blip r:embed="rId4"/>
          <a:stretch/>
        </p:blipFill>
        <p:spPr>
          <a:xfrm>
            <a:off x="428760" y="571680"/>
            <a:ext cx="7929360" cy="594648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6" descr="IMG_0955.jpg"/>
          <p:cNvPicPr/>
          <p:nvPr/>
        </p:nvPicPr>
        <p:blipFill>
          <a:blip r:embed="rId5"/>
          <a:stretch/>
        </p:blipFill>
        <p:spPr>
          <a:xfrm>
            <a:off x="357120" y="571680"/>
            <a:ext cx="8072640" cy="605448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7" descr="IMG_0956.jpg"/>
          <p:cNvPicPr/>
          <p:nvPr/>
        </p:nvPicPr>
        <p:blipFill>
          <a:blip r:embed="rId6"/>
          <a:stretch/>
        </p:blipFill>
        <p:spPr>
          <a:xfrm>
            <a:off x="214200" y="500040"/>
            <a:ext cx="8215560" cy="6162840"/>
          </a:xfrm>
          <a:prstGeom prst="rect">
            <a:avLst/>
          </a:prstGeom>
          <a:ln w="0">
            <a:noFill/>
          </a:ln>
        </p:spPr>
      </p:pic>
      <p:sp>
        <p:nvSpPr>
          <p:cNvPr id="480" name="Выноска-облако 8"/>
          <p:cNvSpPr/>
          <p:nvPr/>
        </p:nvSpPr>
        <p:spPr>
          <a:xfrm>
            <a:off x="7858080" y="5715000"/>
            <a:ext cx="1000080" cy="8571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072" dur="indefinite" restart="never" nodeType="tmRoot">
          <p:childTnLst>
            <p:seq>
              <p:cTn id="1073" dur="indefinite" nodeType="mainSeq">
                <p:childTnLst>
                  <p:par>
                    <p:cTn id="1074" fill="hold">
                      <p:stCondLst>
                        <p:cond delay="0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8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9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0" dur="8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280"/>
                            </p:stCondLst>
                            <p:childTnLst>
                              <p:par>
                                <p:cTn id="10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4280"/>
                            </p:stCondLst>
                            <p:childTnLst>
                              <p:par>
                                <p:cTn id="1088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7280"/>
                            </p:stCondLst>
                            <p:childTnLst>
                              <p:par>
                                <p:cTn id="1094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10280"/>
                            </p:stCondLst>
                            <p:childTnLst>
                              <p:par>
                                <p:cTn id="1100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3280"/>
                            </p:stCondLst>
                            <p:childTnLst>
                              <p:par>
                                <p:cTn id="1106" nodeType="after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456840" y="5000760"/>
            <a:ext cx="81867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entury Schoolbook"/>
              </a:rPr>
              <a:t>Праздник был подготовлен с участием клуба «Детский школьный театр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49e"/>
                </a:solidFill>
                <a:latin typeface="Century Schoolbook"/>
              </a:rPr>
              <a:t>Руководитель: Сапегина Светлана Пименовн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2" name="Прямоугольник 5" descr=""/>
          <p:cNvPicPr/>
          <p:nvPr/>
        </p:nvPicPr>
        <p:blipFill>
          <a:blip r:embed="rId2"/>
          <a:stretch/>
        </p:blipFill>
        <p:spPr>
          <a:xfrm>
            <a:off x="-6480" y="1414440"/>
            <a:ext cx="8656920" cy="31701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6" descr="IMG_0973.jpg"/>
          <p:cNvPicPr/>
          <p:nvPr/>
        </p:nvPicPr>
        <p:blipFill>
          <a:blip r:embed="rId3"/>
          <a:stretch/>
        </p:blipFill>
        <p:spPr>
          <a:xfrm>
            <a:off x="285840" y="357120"/>
            <a:ext cx="8215200" cy="6161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0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7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1" dur="2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25" dur="20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12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2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85480" y="356760"/>
            <a:ext cx="828684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br>
              <a:rPr sz="2700"/>
            </a:br>
            <a:br>
              <a:rPr sz="2700"/>
            </a:br>
            <a:r>
              <a:rPr b="1" lang="en-US" sz="2600" spc="-1" strike="noStrike">
                <a:solidFill>
                  <a:srgbClr val="ab0043"/>
                </a:solidFill>
                <a:latin typeface="Century Schoolbook"/>
              </a:rPr>
              <a:t>НАРОДУ ТАК МНОГО, ТАК ШУМНО НА ПРАЗДНИКЕ!</a:t>
            </a:r>
            <a:br>
              <a:rPr sz="2600"/>
            </a:br>
            <a:r>
              <a:rPr b="1" i="1" lang="en-US" sz="2600" spc="-1" strike="noStrike">
                <a:solidFill>
                  <a:srgbClr val="ab0043"/>
                </a:solidFill>
                <a:latin typeface="Century Schoolbook"/>
              </a:rPr>
              <a:t> </a:t>
            </a:r>
            <a:r>
              <a:rPr b="1" lang="en-US" sz="2600" spc="-1" strike="noStrike">
                <a:solidFill>
                  <a:srgbClr val="ab0043"/>
                </a:solidFill>
                <a:latin typeface="Century Schoolbook"/>
              </a:rPr>
              <a:t>ДАЙТЕ ДОРОГУ, ИДУТ ПЕРВОКЛАССНИКИ!</a:t>
            </a:r>
            <a:br>
              <a:rPr sz="2600"/>
            </a:br>
            <a:r>
              <a:rPr b="1" lang="en-US" sz="2600" spc="-1" strike="noStrike">
                <a:solidFill>
                  <a:srgbClr val="ab0043"/>
                </a:solidFill>
                <a:latin typeface="Century Schoolbook"/>
              </a:rPr>
              <a:t> </a:t>
            </a:r>
            <a:br>
              <a:rPr sz="2600"/>
            </a:br>
            <a:endParaRPr b="0" lang="en-US" sz="2600" spc="-1" strike="noStrike">
              <a:solidFill>
                <a:srgbClr val="666666"/>
              </a:solidFill>
              <a:latin typeface="Century Schoolbook"/>
            </a:endParaRPr>
          </a:p>
        </p:txBody>
      </p:sp>
      <p:pic>
        <p:nvPicPr>
          <p:cNvPr id="381" name="Picture 4" descr="C:\Documents and Settings\Светлана\Мои документы\Мои рисунки\1 класс\Прощание с Азбукой\прощай азбука\IMG_0925.jpg"/>
          <p:cNvPicPr/>
          <p:nvPr/>
        </p:nvPicPr>
        <p:blipFill>
          <a:blip r:embed="rId2"/>
          <a:stretch/>
        </p:blipFill>
        <p:spPr>
          <a:xfrm>
            <a:off x="1071720" y="1357200"/>
            <a:ext cx="6792840" cy="50943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path" presetID="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2 -0.024 0.033 -0.05867 0.058 -0.05867 C 0.095 -0.05867 0.125 -0.02267 0.125 0.02267 C 0.125 0.03733 0.122 0.05067 0.116 0.06267 C 0.117 0.06267 0 0.24267 0 0.244 C 0 0.24267 -0.117 0.06267 -0.116 0.06267 C -0.122 0.05067 -0.125 0.03733 -0.125 0.02267 C -0.125 -0.02267 -0.095 -0.05867 -0.057 -0.05867 C -0.033 -0.05867 -0.012 -0.024 0 0 Z">
                                      <p:cBhvr>
                                        <p:cTn id="33" dur="20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00200"/>
            <a:ext cx="7400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0043"/>
                </a:solidFill>
                <a:latin typeface="Century Schoolbook"/>
              </a:rPr>
              <a:t>Как хорош сегодня зал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0043"/>
                </a:solidFill>
                <a:latin typeface="Century Schoolbook"/>
              </a:rPr>
              <a:t> </a:t>
            </a:r>
            <a:r>
              <a:rPr b="0" lang="en-US" sz="3200" spc="-1" strike="noStrike">
                <a:solidFill>
                  <a:srgbClr val="ab0043"/>
                </a:solidFill>
                <a:latin typeface="Century Schoolbook"/>
              </a:rPr>
              <a:t>Весь горит огне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0043"/>
                </a:solidFill>
                <a:latin typeface="Century Schoolbook"/>
              </a:rPr>
              <a:t>Мы на праздник наш веселый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b0043"/>
                </a:solidFill>
                <a:latin typeface="Century Schoolbook"/>
              </a:rPr>
              <a:t>Всех друзей зовем.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3" name="Picture 2" descr="C:\Documents and Settings\Светлана\Мои документы\Мои рисунки\1 класс\Прощание с Азбукой\прощай азбука\IMG_0929.jpg"/>
          <p:cNvPicPr/>
          <p:nvPr/>
        </p:nvPicPr>
        <p:blipFill>
          <a:blip r:embed="rId2"/>
          <a:stretch/>
        </p:blipFill>
        <p:spPr>
          <a:xfrm>
            <a:off x="571680" y="857160"/>
            <a:ext cx="7072200" cy="53038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b0043"/>
                </a:solidFill>
                <a:latin typeface="Georgia"/>
              </a:rPr>
              <a:t>НЫНЧЕ В НАШЕМ КЛАССЕ ПРАЗДНИК!</a:t>
            </a:r>
            <a:br>
              <a:rPr sz="2700"/>
            </a:br>
            <a:r>
              <a:rPr b="1" lang="en-US" sz="2700" spc="-1" strike="noStrike">
                <a:solidFill>
                  <a:srgbClr val="ab0043"/>
                </a:solidFill>
                <a:latin typeface="Georgia"/>
              </a:rPr>
              <a:t> СЛАВНЫЙ ПРАЗДНИК БУКВАРЯ!</a:t>
            </a:r>
            <a:br>
              <a:rPr sz="2700"/>
            </a:br>
            <a:endParaRPr b="0" lang="en-US" sz="27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В поезд можете садитьс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Этот поезд быстро мчитс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В школу он спешит сейчас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К нам на праздник в 1 класс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Чуть губами шевелит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Изучая алфавит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Так садись в счастливый поезд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И помчим от А до Я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6" name="Рисунок 3" descr="S7300567.JPG"/>
          <p:cNvPicPr/>
          <p:nvPr/>
        </p:nvPicPr>
        <p:blipFill>
          <a:blip r:embed="rId2"/>
          <a:stretch/>
        </p:blipFill>
        <p:spPr>
          <a:xfrm>
            <a:off x="571680" y="1071720"/>
            <a:ext cx="7500600" cy="5626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" dur="1000"/>
                                        <p:tgtEl>
                                          <p:spTgt spid="3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3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3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000"/>
                            </p:stCondLst>
                            <p:childTnLst>
                              <p:par>
                                <p:cTn id="12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 rot="21076200">
            <a:off x="428400" y="2214360"/>
            <a:ext cx="7467480" cy="48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49e"/>
                </a:solidFill>
                <a:latin typeface="Arial"/>
                <a:ea typeface="Times New Roman"/>
              </a:rPr>
              <a:t>Мы простимся с Азбукой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49e"/>
                </a:solidFill>
                <a:latin typeface="Arial"/>
                <a:ea typeface="Times New Roman"/>
              </a:rPr>
              <a:t>И рукой помашем,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49e"/>
                </a:solidFill>
                <a:latin typeface="Arial"/>
                <a:ea typeface="Times New Roman"/>
              </a:rPr>
              <a:t>И спасибо десять раз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49e"/>
                </a:solidFill>
                <a:latin typeface="Arial"/>
                <a:ea typeface="Times New Roman"/>
              </a:rPr>
              <a:t>Дружно хором скажем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449e"/>
                </a:solidFill>
                <a:latin typeface="Century Schoolbook"/>
              </a:rPr>
              <a:t> </a:t>
            </a:r>
            <a:r>
              <a:rPr b="0" lang="ru-RU" sz="3200" spc="-1" strike="noStrike">
                <a:solidFill>
                  <a:srgbClr val="00449e"/>
                </a:solidFill>
                <a:latin typeface="Century Schoolbook"/>
              </a:rPr>
              <a:t>Спа-си-бо!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Рисунок 3" descr="IMG_0926.jpg"/>
          <p:cNvPicPr/>
          <p:nvPr/>
        </p:nvPicPr>
        <p:blipFill>
          <a:blip r:embed="rId2"/>
          <a:stretch/>
        </p:blipFill>
        <p:spPr>
          <a:xfrm rot="337800">
            <a:off x="703440" y="694800"/>
            <a:ext cx="7464240" cy="559764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4" descr="IMG_0927.jpg"/>
          <p:cNvPicPr/>
          <p:nvPr/>
        </p:nvPicPr>
        <p:blipFill>
          <a:blip r:embed="rId3"/>
          <a:stretch/>
        </p:blipFill>
        <p:spPr>
          <a:xfrm rot="334800">
            <a:off x="708120" y="576360"/>
            <a:ext cx="7708680" cy="5781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0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1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2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3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7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8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59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4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5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6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69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0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1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4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5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6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77" dur="500" fill="hold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ntr" presetID="2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ab0043"/>
                </a:solidFill>
                <a:latin typeface="Century Schoolbook"/>
              </a:rPr>
              <a:t>УВАЖАЕМАЯ АЗБУКА!</a:t>
            </a:r>
            <a:br>
              <a:rPr sz="2700"/>
            </a:br>
            <a:r>
              <a:rPr b="1" lang="en-US" sz="2700" spc="-1" strike="noStrike">
                <a:solidFill>
                  <a:srgbClr val="ab0043"/>
                </a:solidFill>
                <a:latin typeface="Century Schoolbook"/>
              </a:rPr>
              <a:t>ПРИНИМАЙ ПАРАД ВОЙСК ОТ А ДО Я</a:t>
            </a:r>
            <a:br>
              <a:rPr sz="2700"/>
            </a:br>
            <a:endParaRPr b="0" lang="en-US" sz="27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Вот и я, мои друзья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Я вам рада очень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Слышать добрые слова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Кто же не захочет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Есть принимать парад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А ну-ка, буквы, встаньте в ряд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Я - командир, вы – мой отряд!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Гласны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Согласные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Century Schoolbook"/>
              </a:rPr>
              <a:t>Буквы, которые не обозначают звуков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76"/>
                </a:solidFill>
                <a:latin typeface="Century Schoolbook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Рисунок 3" descr="IMG_0930.jpg"/>
          <p:cNvPicPr/>
          <p:nvPr/>
        </p:nvPicPr>
        <p:blipFill>
          <a:blip r:embed="rId2"/>
          <a:stretch/>
        </p:blipFill>
        <p:spPr>
          <a:xfrm>
            <a:off x="2286000" y="285840"/>
            <a:ext cx="4648320" cy="6197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1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500"/>
                            </p:stCondLst>
                            <p:childTnLst>
                              <p:par>
                                <p:cTn id="244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7000"/>
                            </p:stCondLst>
                            <p:childTnLst>
                              <p:par>
                                <p:cTn id="2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" dur="10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0" dur="1000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9000"/>
                            </p:stCondLst>
                            <p:childTnLst>
                              <p:par>
                                <p:cTn id="2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3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3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3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Выноска-облако 8"/>
          <p:cNvGrpSpPr/>
          <p:nvPr/>
        </p:nvGrpSpPr>
        <p:grpSpPr>
          <a:xfrm>
            <a:off x="219240" y="2243160"/>
            <a:ext cx="2773080" cy="1616040"/>
            <a:chOff x="219240" y="2243160"/>
            <a:chExt cx="2773080" cy="1616040"/>
          </a:xfrm>
        </p:grpSpPr>
        <p:pic>
          <p:nvPicPr>
            <p:cNvPr id="395" name="Выноска-облако 8" descr=""/>
            <p:cNvPicPr/>
            <p:nvPr/>
          </p:nvPicPr>
          <p:blipFill>
            <a:blip r:embed="rId2"/>
            <a:stretch/>
          </p:blipFill>
          <p:spPr>
            <a:xfrm>
              <a:off x="219240" y="2243160"/>
              <a:ext cx="277308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649440" y="2479680"/>
              <a:ext cx="172692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3" action="ppaction://hlinksldjump"/>
                </a:rPr>
                <a:t>1 станция «</a:t>
              </a:r>
              <a:r>
                <a:rPr b="0" lang="ru-RU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4" action="ppaction://hlinksldjump"/>
                </a:rPr>
                <a:t>Алфавитово</a:t>
              </a:r>
              <a:r>
                <a:rPr b="0" lang="ru-RU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5" action="ppaction://hlinksldjump"/>
                </a:rPr>
                <a:t>»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Круглая лента лицом вверх 3"/>
          <p:cNvGrpSpPr/>
          <p:nvPr/>
        </p:nvGrpSpPr>
        <p:grpSpPr>
          <a:xfrm>
            <a:off x="493560" y="244440"/>
            <a:ext cx="7656840" cy="2138400"/>
            <a:chOff x="493560" y="244440"/>
            <a:chExt cx="7656840" cy="2138400"/>
          </a:xfrm>
        </p:grpSpPr>
        <p:pic>
          <p:nvPicPr>
            <p:cNvPr id="398" name="Круглая лента лицом вверх 3" descr=""/>
            <p:cNvPicPr/>
            <p:nvPr/>
          </p:nvPicPr>
          <p:blipFill>
            <a:blip r:embed="rId6"/>
            <a:stretch/>
          </p:blipFill>
          <p:spPr>
            <a:xfrm>
              <a:off x="493560" y="244440"/>
              <a:ext cx="7656840" cy="21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2446200" y="347760"/>
              <a:ext cx="3751560" cy="14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0" name="Прямоугольник 7" descr=""/>
          <p:cNvPicPr/>
          <p:nvPr/>
        </p:nvPicPr>
        <p:blipFill>
          <a:blip r:embed="rId7"/>
          <a:stretch/>
        </p:blipFill>
        <p:spPr>
          <a:xfrm>
            <a:off x="1603440" y="109440"/>
            <a:ext cx="6546960" cy="2541600"/>
          </a:xfrm>
          <a:prstGeom prst="rect">
            <a:avLst/>
          </a:prstGeom>
          <a:ln w="0">
            <a:noFill/>
          </a:ln>
        </p:spPr>
      </p:pic>
      <p:grpSp>
        <p:nvGrpSpPr>
          <p:cNvPr id="401" name="Выноска-облако 9"/>
          <p:cNvGrpSpPr/>
          <p:nvPr/>
        </p:nvGrpSpPr>
        <p:grpSpPr>
          <a:xfrm>
            <a:off x="3078000" y="2103480"/>
            <a:ext cx="3419640" cy="1530360"/>
            <a:chOff x="3078000" y="2103480"/>
            <a:chExt cx="3419640" cy="1530360"/>
          </a:xfrm>
        </p:grpSpPr>
        <p:pic>
          <p:nvPicPr>
            <p:cNvPr id="402" name="Выноска-облако 9" descr=""/>
            <p:cNvPicPr/>
            <p:nvPr/>
          </p:nvPicPr>
          <p:blipFill>
            <a:blip r:embed="rId8"/>
            <a:stretch/>
          </p:blipFill>
          <p:spPr>
            <a:xfrm>
              <a:off x="3078000" y="2103480"/>
              <a:ext cx="341964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3595680" y="2327400"/>
              <a:ext cx="21477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9" action="ppaction://hlinksldjump"/>
                </a:rPr>
                <a:t>2 станц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10" action="ppaction://hlinksldjump"/>
                </a:rPr>
                <a:t>«Сортировочна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Выноска-облако 10"/>
          <p:cNvGrpSpPr/>
          <p:nvPr/>
        </p:nvGrpSpPr>
        <p:grpSpPr>
          <a:xfrm>
            <a:off x="1359000" y="3456000"/>
            <a:ext cx="2639880" cy="1530360"/>
            <a:chOff x="1359000" y="3456000"/>
            <a:chExt cx="2639880" cy="1530360"/>
          </a:xfrm>
        </p:grpSpPr>
        <p:pic>
          <p:nvPicPr>
            <p:cNvPr id="405" name="Выноска-облако 10" descr=""/>
            <p:cNvPicPr/>
            <p:nvPr/>
          </p:nvPicPr>
          <p:blipFill>
            <a:blip r:embed="rId11"/>
            <a:stretch/>
          </p:blipFill>
          <p:spPr>
            <a:xfrm>
              <a:off x="1359000" y="3456000"/>
              <a:ext cx="26398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1773360" y="3684600"/>
              <a:ext cx="163332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12" action="ppaction://hlinksldjump"/>
                </a:rPr>
                <a:t>4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13" action="ppaction://hlinksldjump"/>
                </a:rPr>
                <a:t>«</a:t>
              </a:r>
              <a:r>
                <a:rPr b="0" lang="ru-RU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14" action="ppaction://hlinksldjump"/>
                </a:rPr>
                <a:t>Загадкино</a:t>
              </a:r>
              <a:r>
                <a:rPr b="0" lang="ru-RU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15" action="ppaction://hlinksldjump"/>
                </a:rPr>
                <a:t>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Выноска-облако 11"/>
          <p:cNvGrpSpPr/>
          <p:nvPr/>
        </p:nvGrpSpPr>
        <p:grpSpPr>
          <a:xfrm>
            <a:off x="6151680" y="3816360"/>
            <a:ext cx="2773080" cy="1530360"/>
            <a:chOff x="6151680" y="3816360"/>
            <a:chExt cx="2773080" cy="1530360"/>
          </a:xfrm>
        </p:grpSpPr>
        <p:pic>
          <p:nvPicPr>
            <p:cNvPr id="408" name="Выноска-облако 11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6151680" y="3816360"/>
              <a:ext cx="277308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578640" y="4041720"/>
              <a:ext cx="172728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00"/>
                  </a:solidFill>
                  <a:latin typeface="Century Schoolbook"/>
                </a:rPr>
                <a:t>6 станция «Сюрпризово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Выноска-облако 12"/>
          <p:cNvGrpSpPr/>
          <p:nvPr/>
        </p:nvGrpSpPr>
        <p:grpSpPr>
          <a:xfrm>
            <a:off x="6431040" y="2382840"/>
            <a:ext cx="2421000" cy="1536840"/>
            <a:chOff x="6431040" y="2382840"/>
            <a:chExt cx="2421000" cy="1536840"/>
          </a:xfrm>
        </p:grpSpPr>
        <p:pic>
          <p:nvPicPr>
            <p:cNvPr id="411" name="Выноска-облако 12" descr=""/>
            <p:cNvPicPr/>
            <p:nvPr/>
          </p:nvPicPr>
          <p:blipFill>
            <a:blip r:embed="rId18"/>
            <a:stretch/>
          </p:blipFill>
          <p:spPr>
            <a:xfrm>
              <a:off x="6431040" y="2382840"/>
              <a:ext cx="2421000" cy="153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815160" y="2612880"/>
              <a:ext cx="149364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19" action="ppaction://hlinksldjump"/>
                </a:rPr>
                <a:t>3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17bbfd"/>
                  </a:solidFill>
                  <a:uFillTx/>
                  <a:latin typeface="Century Schoolbook"/>
                  <a:hlinkClick r:id="rId20" action="ppaction://hlinksldjump"/>
                </a:rPr>
                <a:t>« Слогова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Выноска-облако 13"/>
          <p:cNvGrpSpPr/>
          <p:nvPr/>
        </p:nvGrpSpPr>
        <p:grpSpPr>
          <a:xfrm>
            <a:off x="4218120" y="3316320"/>
            <a:ext cx="2066760" cy="1530360"/>
            <a:chOff x="4218120" y="3316320"/>
            <a:chExt cx="2066760" cy="1530360"/>
          </a:xfrm>
        </p:grpSpPr>
        <p:pic>
          <p:nvPicPr>
            <p:cNvPr id="414" name="Выноска-облако 13" descr=""/>
            <p:cNvPicPr/>
            <p:nvPr/>
          </p:nvPicPr>
          <p:blipFill>
            <a:blip r:embed="rId21"/>
            <a:stretch/>
          </p:blipFill>
          <p:spPr>
            <a:xfrm>
              <a:off x="4218120" y="3316320"/>
              <a:ext cx="20667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551480" y="3541680"/>
              <a:ext cx="1260360" cy="79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entury Schoolbook"/>
                </a:rPr>
                <a:t>Станция Песе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Овальная выноска 15"/>
          <p:cNvGrpSpPr/>
          <p:nvPr/>
        </p:nvGrpSpPr>
        <p:grpSpPr>
          <a:xfrm>
            <a:off x="219240" y="4950000"/>
            <a:ext cx="2633400" cy="1506240"/>
            <a:chOff x="219240" y="4950000"/>
            <a:chExt cx="2633400" cy="1506240"/>
          </a:xfrm>
        </p:grpSpPr>
        <p:pic>
          <p:nvPicPr>
            <p:cNvPr id="417" name="Овальная выноска 15" descr=""/>
            <p:cNvPicPr/>
            <p:nvPr/>
          </p:nvPicPr>
          <p:blipFill>
            <a:blip r:embed="rId22"/>
            <a:stretch/>
          </p:blipFill>
          <p:spPr>
            <a:xfrm>
              <a:off x="219240" y="4950000"/>
              <a:ext cx="2633400" cy="150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652320" y="5178600"/>
              <a:ext cx="1766880" cy="85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entury Schoolbook"/>
                </a:rPr>
                <a:t>Главные гости праздни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Овальная выноска 16"/>
          <p:cNvGrpSpPr/>
          <p:nvPr/>
        </p:nvGrpSpPr>
        <p:grpSpPr>
          <a:xfrm>
            <a:off x="3078000" y="4883040"/>
            <a:ext cx="2846520" cy="1498680"/>
            <a:chOff x="3078000" y="4883040"/>
            <a:chExt cx="2846520" cy="1498680"/>
          </a:xfrm>
        </p:grpSpPr>
        <p:pic>
          <p:nvPicPr>
            <p:cNvPr id="420" name="Овальная выноска 16" descr=""/>
            <p:cNvPicPr/>
            <p:nvPr/>
          </p:nvPicPr>
          <p:blipFill>
            <a:blip r:embed="rId23"/>
            <a:stretch/>
          </p:blipFill>
          <p:spPr>
            <a:xfrm>
              <a:off x="3078000" y="4883040"/>
              <a:ext cx="2846520" cy="149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3540240" y="5106960"/>
              <a:ext cx="19206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Century Schoolbook"/>
                </a:rPr>
                <a:t>Вручение удостоверен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newsflash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3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0"/>
                            </p:stCondLst>
                            <p:childTnLst>
                              <p:par>
                                <p:cTn id="3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6000"/>
                            </p:stCondLst>
                            <p:childTnLst>
                              <p:par>
                                <p:cTn id="3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9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7000"/>
                            </p:stCondLst>
                            <p:childTnLst>
                              <p:par>
                                <p:cTn id="31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7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b0043"/>
                </a:solidFill>
                <a:latin typeface="Georgia"/>
              </a:rPr>
              <a:t>1 СТАНЦИЯ « АЛФАВИТОВО». </a:t>
            </a:r>
            <a:br>
              <a:rPr sz="2700"/>
            </a:br>
            <a:endParaRPr b="0" lang="en-US" sz="30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6840" y="1599840"/>
            <a:ext cx="746748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Georgia"/>
              </a:rPr>
              <a:t>Итак, наша первая станция « Алфавитово»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Georgia"/>
              </a:rPr>
              <a:t>Отгадайте, о каких буквах идет речь в стихах.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Вот два столба наискосок,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А между ними поясок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Ты эту букву знаешь? А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776"/>
                </a:solidFill>
                <a:latin typeface="Century Schoolbook"/>
              </a:rPr>
              <a:t>Перед тобою буква …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TextBox 4"/>
          <p:cNvSpPr/>
          <p:nvPr/>
        </p:nvSpPr>
        <p:spPr>
          <a:xfrm rot="21090600">
            <a:off x="1191600" y="3263040"/>
            <a:ext cx="6365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                </a:t>
            </a: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Пало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                </a:t>
            </a: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Рядом две ровные дужк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                </a:t>
            </a:r>
            <a:r>
              <a:rPr b="0" lang="en-US" sz="2400" spc="-1" strike="noStrike">
                <a:solidFill>
                  <a:srgbClr val="002776"/>
                </a:solidFill>
                <a:latin typeface="Georgia"/>
              </a:rPr>
              <a:t>Вот и готовы очки …для лягу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5"/>
          <p:cNvSpPr/>
          <p:nvPr/>
        </p:nvSpPr>
        <p:spPr>
          <a:xfrm>
            <a:off x="571680" y="5072040"/>
            <a:ext cx="7358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0062"/>
                </a:solidFill>
                <a:latin typeface="Georgia"/>
              </a:rPr>
              <a:t>Молодцы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0062"/>
                </a:solidFill>
                <a:latin typeface="Georgia"/>
              </a:rPr>
              <a:t>И сегодня на наш веселый урок пришли все 33 жителя этого горо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Рисунок 6" descr="IMG_0924.jpg"/>
          <p:cNvPicPr/>
          <p:nvPr/>
        </p:nvPicPr>
        <p:blipFill>
          <a:blip r:embed="rId2"/>
          <a:stretch/>
        </p:blipFill>
        <p:spPr>
          <a:xfrm>
            <a:off x="357120" y="714240"/>
            <a:ext cx="7715160" cy="5786640"/>
          </a:xfrm>
          <a:prstGeom prst="rect">
            <a:avLst/>
          </a:prstGeom>
          <a:ln w="0">
            <a:noFill/>
          </a:ln>
        </p:spPr>
      </p:pic>
      <p:sp>
        <p:nvSpPr>
          <p:cNvPr id="427" name="Выноска-облако 7"/>
          <p:cNvSpPr/>
          <p:nvPr/>
        </p:nvSpPr>
        <p:spPr>
          <a:xfrm>
            <a:off x="8143920" y="5643720"/>
            <a:ext cx="64296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80"/>
                            </p:stCondLst>
                            <p:childTnLst>
                              <p:par>
                                <p:cTn id="3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880"/>
                            </p:stCondLst>
                            <p:childTnLst>
                              <p:par>
                                <p:cTn id="33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880"/>
                            </p:stCondLst>
                            <p:childTnLst>
                              <p:par>
                                <p:cTn id="34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880"/>
                            </p:stCondLst>
                            <p:childTnLst>
                              <p:par>
                                <p:cTn id="3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880"/>
                            </p:stCondLst>
                            <p:childTnLst>
                              <p:par>
                                <p:cTn id="3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880"/>
                            </p:stCondLst>
                            <p:childTnLst>
                              <p:par>
                                <p:cTn id="3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880"/>
                            </p:stCondLst>
                            <p:childTnLst>
                              <p:par>
                                <p:cTn id="368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9" dur="1000"/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7880"/>
                            </p:stCondLst>
                            <p:childTnLst>
                              <p:par>
                                <p:cTn id="37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3" dur="1000"/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8880"/>
                            </p:stCondLst>
                            <p:childTnLst>
                              <p:par>
                                <p:cTn id="376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7" dur="1000"/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880"/>
                            </p:stCondLst>
                            <p:childTnLst>
                              <p:par>
                                <p:cTn id="380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81" dur="1000"/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0880"/>
                            </p:stCondLst>
                            <p:childTnLst>
                              <p:par>
                                <p:cTn id="384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6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3380"/>
                            </p:stCondLst>
                            <p:childTnLst>
                              <p:par>
                                <p:cTn id="388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6379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b0043"/>
                </a:solidFill>
                <a:latin typeface="Georgia"/>
              </a:rPr>
              <a:t>2 СТАНЦИЯ « СОРТИРОВОЧНАЯ»</a:t>
            </a:r>
            <a:endParaRPr b="0" lang="en-US" sz="3600" spc="-1" strike="noStrike">
              <a:solidFill>
                <a:srgbClr val="666666"/>
              </a:solidFill>
              <a:latin typeface="Century School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1599840"/>
            <a:ext cx="768672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9e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449e"/>
                </a:solidFill>
                <a:latin typeface="Century Schoolbook"/>
              </a:rPr>
              <a:t>Кто знает, что такое сортировочная станция?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9e"/>
                </a:solidFill>
                <a:latin typeface="Century Schoolbook"/>
              </a:rPr>
              <a:t>   </a:t>
            </a:r>
            <a:r>
              <a:rPr b="0" lang="en-US" sz="2800" spc="-1" strike="noStrike">
                <a:solidFill>
                  <a:srgbClr val="00449e"/>
                </a:solidFill>
                <a:latin typeface="Century Schoolbook"/>
              </a:rPr>
              <a:t>Каждая команда получает конверт с буквами вам надо составить, как можно быстрее, из букв слово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49e"/>
                </a:solidFill>
                <a:latin typeface="Century Schoolbook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19ff"/>
                </a:solidFill>
                <a:latin typeface="Century Schoolbook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519ff"/>
                </a:solidFill>
                <a:latin typeface="Century Schoolbook"/>
              </a:rPr>
              <a:t>А вот впереди ребят ждала самая сложная станция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09880" indent="-209880">
              <a:spcBef>
                <a:spcPts val="601"/>
              </a:spcBef>
              <a:buClr>
                <a:srgbClr val="ff388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30" name="Рисунок 6" descr="IMG_0939.jpg"/>
          <p:cNvPicPr/>
          <p:nvPr/>
        </p:nvPicPr>
        <p:blipFill>
          <a:blip r:embed="rId2"/>
          <a:stretch/>
        </p:blipFill>
        <p:spPr>
          <a:xfrm>
            <a:off x="571680" y="285840"/>
            <a:ext cx="7215120" cy="5411520"/>
          </a:xfrm>
          <a:prstGeom prst="rect">
            <a:avLst/>
          </a:prstGeom>
          <a:ln w="0">
            <a:noFill/>
          </a:ln>
        </p:spPr>
      </p:pic>
      <p:sp>
        <p:nvSpPr>
          <p:cNvPr id="431" name="Выноска-облако 4"/>
          <p:cNvSpPr/>
          <p:nvPr/>
        </p:nvSpPr>
        <p:spPr>
          <a:xfrm>
            <a:off x="8072280" y="5643720"/>
            <a:ext cx="714600" cy="7142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960"/>
                            </p:stCondLst>
                            <p:childTnLst>
                              <p:par>
                                <p:cTn id="40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7" dur="20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960"/>
                            </p:stCondLst>
                            <p:childTnLst>
                              <p:par>
                                <p:cTn id="409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1" dur="20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960"/>
                            </p:stCondLst>
                            <p:childTnLst>
                              <p:par>
                                <p:cTn id="413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5" dur="20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960"/>
                            </p:stCondLst>
                            <p:childTnLst>
                              <p:par>
                                <p:cTn id="41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19" dur="20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996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0960"/>
                            </p:stCondLst>
                            <p:childTnLst>
                              <p:par>
                                <p:cTn id="42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7" dur="2000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8:35:22Z</dcterms:created>
  <dc:creator>Светлана</dc:creator>
  <dc:description/>
  <dc:language>en-US</dc:language>
  <cp:lastModifiedBy>Миша</cp:lastModifiedBy>
  <dcterms:modified xsi:type="dcterms:W3CDTF">2009-11-22T09:37:03Z</dcterms:modified>
  <cp:revision>54</cp:revision>
  <dc:subject/>
  <dc:title>Прощание с Азбукой</dc:title>
</cp:coreProperties>
</file>